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565-2AC7-4DB4-BDDC-E1EDBD7A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B02-43C2-4E86-80F8-B08D93B3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F82-0DB2-437E-91A4-EAE8014E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8BD-899B-4795-A35E-A35B312D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F902-9D8B-42F8-90A5-41C334A8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75D7-67D2-4A20-82AF-57BA9AD4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463F-B725-4045-A12E-533A1F62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2DCB-16B8-43D3-810A-39B7EC35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9A0E-E1F2-4A17-A0F4-8D5A2F0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86FD-24F5-415B-B89E-2AAC1B43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D46C-B7C0-43FA-A362-316FE08A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414-FE58-4EAB-8A06-B425E800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4010-0F62-444D-8A8E-D1C874E2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84AA-94B6-4B1B-9F76-67033213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0850-CE29-42A0-9FF6-908D9E45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6B7F-28F3-4F94-BB51-019F6568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3925-BA0A-4A57-8D97-381B2906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81E-77D0-4229-A31E-5BCD2D4A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84F-0A2B-4CA0-A82E-71D97936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C93-29A0-41CE-BEB0-76F5DAE3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340-2237-4134-9378-03A6EC6C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3F2-8DD7-48AB-AD23-A7034EEB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768-40CF-4825-BFB2-EC499356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42D-A111-48C0-AE46-FC7AE2F7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E607-7369-4394-A63A-83363057E66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FFA6-0CF1-4614-91C6-F4CD10FDE2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207640" cy="118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Из истории масштаба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4" descr="images"/>
          <p:cNvPicPr/>
          <p:nvPr/>
        </p:nvPicPr>
        <p:blipFill>
          <a:blip r:embed="rId1"/>
          <a:stretch/>
        </p:blipFill>
        <p:spPr>
          <a:xfrm>
            <a:off x="1692360" y="2492280"/>
            <a:ext cx="5113080" cy="400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ому феномену и понятию не повезло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о стало в обыденной речи синонимом размера. Истинное и первоначальное значение слова «крупномасштабный» — изображенный и рассматриваемый с высокой степенью подроб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сштаб — отношение между объектом в реальности и его отображением, описанием, представлением его смысла (на карте, но и не только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Maßsta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Maß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мера, размер, 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stab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пал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сштабы изображений на чертежах должны выбираться из следующего ряда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сштабы уменьшения 1:2; 1:2,5; 1:4; 1:5; 1:10; 1:15; 1:20; 1:25; 1:40; 1:50; 1:75; 1:100; 1:200; 1:400; 1:500; 1:800;  1:1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туральная величина 1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сштабы увеличения 2:1; 2,5:1; 4:1; 5:1; 10:1; 20:1; 40:1; 50:1; 100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99640" y="333000"/>
            <a:ext cx="748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сштаб появился вместе с первыми картами…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вые упоминания о карте в Китае относятся к III веку до нашей эры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5" descr="китай"/>
          <p:cNvPicPr/>
          <p:nvPr/>
        </p:nvPicPr>
        <p:blipFill>
          <a:blip r:embed="rId1"/>
          <a:stretch/>
        </p:blipFill>
        <p:spPr>
          <a:xfrm>
            <a:off x="2843280" y="3573360"/>
            <a:ext cx="3672000" cy="29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987120"/>
            <a:ext cx="8435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мь карт Царства Цинь IV века до нашей эры были нарисованы черными чернилами на деревянных блока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 двух из них указаны расстояния пробега в ли — китайское единице измерения расстояния, в древности составляющей 300 или 600 шагов, а по современному общепринятому значению — 500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хорошо что есть масштаб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и один географический объект – реку, мост, поселок – невозможно изобразить на топографическом плане, карте в натуральную величину. Люди всегда рисовали уменьшенные изображения местности, причем разные участки изображения уменьшали произвольно, в разной степени. Поэтому старинные чертежи местности не дают возможности понять, например, каково расстояние между берегами реки, чему равна длина реки и т.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тобы план местности был более точным, необходимо все его детали уменьшать в одинаково число раз с сохранением всех пропорц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клад подготовила группа Первопроходц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4" descr="image003"/>
          <p:cNvPicPr/>
          <p:nvPr/>
        </p:nvPicPr>
        <p:blipFill>
          <a:blip r:embed="rId1"/>
          <a:stretch/>
        </p:blipFill>
        <p:spPr>
          <a:xfrm>
            <a:off x="2627280" y="1844640"/>
            <a:ext cx="357840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9T10:50:57Z</dcterms:created>
  <dc:creator>Елена</dc:creator>
  <dc:description/>
  <dc:language>en-US</dc:language>
  <cp:lastModifiedBy>Колян</cp:lastModifiedBy>
  <dcterms:modified xsi:type="dcterms:W3CDTF">2011-05-29T13:55:31Z</dcterms:modified>
  <cp:revision>4</cp:revision>
  <dc:subject/>
  <dc:title>Из истории масштаба…</dc:title>
</cp:coreProperties>
</file>